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85F6-3812-472C-A482-45D16693D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31DB-6DA2-456C-98D7-F6CFB0403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01F5-7DA5-4F74-894D-0111E4254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9576-05B2-4479-8EEE-D94DE0DB0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773E-E65B-4E64-B75F-88B02187A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F6EF-154D-4699-9E00-28EA8A656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714E-A3F8-4F8D-A663-FB68956F5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4F5C-E0F4-4D03-8C60-43228888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09C3-EAF7-4D20-8D48-65DC4002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EF51-DB9B-4A5B-9EFE-966F76B0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00C6-1976-4F1B-8B49-41B431D6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E4B6-37AF-4EA3-AD59-F64B3CF6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6C55-6896-47C7-BB80-75EA0EF6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6E6F-9E24-4246-BDE5-A001C000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2D99-D224-4981-A87B-E3FFFF4D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8541-B9D7-4001-B5C5-6642E07B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31FB-C3EF-44C2-9889-1EE70DD9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3939-F019-4BC2-ACF7-AAD4BFD0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A176-201F-4331-80AB-C0380987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8423-8AE6-4DD4-A006-FD45E354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2A4A-C219-46AF-BDD1-497A2A81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D62F-04CA-49DF-BAAA-F7B67A04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90C2-1BE5-4066-8DAB-01C5A78E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7A72-589B-4F40-BEF5-EDDCB3EE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56C89-2F75-469C-9B8A-946FE26C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04E32-5812-4B70-9CFD-6C85EE74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DFC54-8B35-41F6-8D67-333DA289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CF5FB-7D8F-48A5-A901-A49617E3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2E61F-3BF2-403C-B348-E921FA06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D93E-8E1D-4597-89D1-4F9A8449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12BB3-2447-4F54-BFF4-F703CE12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B3AFD-0382-4883-9D1A-3A711110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E8E6B-3D97-4D6C-9EAF-3EA7B532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C0B06-A81A-47B9-8D88-E81AD615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AFA35-FD37-4772-8F6A-87DEFD7C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77963-33B9-4A5D-A737-ABA676CC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95BFE-F004-44FE-AE19-8CB48581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443D8-F65E-4541-B09C-3B7A27F6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CE3A0-9AD0-4FF8-8274-C12168BC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5394A-87EF-488C-9E95-ED79FA90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FC60-59D4-44CE-859F-517C78B4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2D8AF-63D9-41EB-A04C-5A86286C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439A1-F309-4312-8AED-2BF94124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7C80A-E7FE-4458-A6D4-09855C70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4416E-EA31-46D5-95FC-AFC95AC6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03946-598E-4EF5-9A32-AB16721C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A3607-D8DB-47FF-818A-16CC8737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B46CD-4A23-4755-8263-0A34CF16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53B40-83C4-4DC8-B39D-2C60DB36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690BE-008A-4E02-B4D0-1EC47C04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D3817-5F21-422E-AA16-C73523D2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5192-D11F-4C04-A6F1-F2FBBFF9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1F433-A9BD-4BB9-89EE-59689C8B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5190C-CA69-4963-BD55-9D06A7F6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20AC3-7F19-477F-90E1-2511FEAD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FDBF3-093B-420A-B6F5-A5486137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6F9E5-38F6-4E1C-9DE4-AA82E29D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9A76D-DD25-4E2C-9A1E-04F3B66E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FEF52-BC4B-471B-A610-304F9249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DAA07-8404-42CC-B3A1-ADFDA62C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7802E-F13F-40F2-BA5C-0CE19DF1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37EA2-8E55-4DD4-B860-D3B24D9A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1AE8-4D4D-4203-9D9C-67E66815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1C677-6E4C-4CD1-A542-14A54777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1BA4A-3266-4567-911F-AB83CC6C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3C9B4-271D-484E-B25F-D346DC0C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DB8A0-CF9A-4ADB-91EF-D40ECFD2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D1993-ACA8-4806-92DA-4467955D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0057D-FD1A-4597-B824-1877A480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D72FA-207B-466B-83F3-656C4209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37E21-97F9-4C7C-A9AA-5E2D660F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3D8F2-52D4-4128-B8A9-2AE107F4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B22E4-C577-4DF2-935C-0627350E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F44E-DFA3-444A-8BC9-7D57A0D0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76C13-DFD4-4927-90C2-890941D2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D8875-88FF-4AE7-9D2D-FF15943B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FDF5D-3710-42EE-813C-52903ED6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FF182-1E7E-455E-849D-CF087D88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27C35-E928-4C73-B7F1-97297E60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CF259-571E-4DAD-8D74-8D97D418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1DED4-BADE-47DB-9838-F71C3504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78832-EFEE-497F-9A59-73EB4B18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B8A11-BB80-49F5-89F7-D382538E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00F4A-D0B0-4BB6-A44B-148E1777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FD31-C30A-4C5E-A80F-0BBED3C6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C0535-619A-4399-A6A2-31FDFA97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B86B7-885F-4032-82CF-1B80CE6B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520F7-4E55-4D32-A9B7-8B3C4EB2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E883A-A75E-432D-A3AE-5B46A13E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B2CA8-8470-4EA3-BC8D-0E3B34C7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69EB5-CDE6-4EF9-91E5-FB63426F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C0ECD-7A2E-4EBA-854A-606B7F30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B43B2-E341-4B0D-AB1F-B6FBD2A8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E5D84-E196-4A27-AFFB-EDA75C4D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CCE23-BA94-4917-B6D0-2335E28A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3FA6-CC00-48B9-9853-DFF4A600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7C50D-D2B3-4998-80A6-57947EE1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4B34F-5219-4F32-8C94-F31002A7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F7ED3-7074-4F99-8C26-DE024963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E0ED1-34C4-4AB7-BD5A-483F2FE8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D31FD-D462-4B73-B3DB-F8D11B53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6FD1F-B240-41E2-BEB4-968C7820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FA1F2-6CA6-4962-8951-BCC229AD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6E02-5B27-40D8-90B0-62C74A07F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3EF2-CC3D-4B16-A133-31E046FC557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2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97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BAF2-36AB-4422-9812-756A57066A9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44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2F19-98A5-4E43-B673-2F13FC3435B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2006-0E3C-4F99-BD7F-60A9942E6BC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0F78-5DD3-4C15-AC82-6E630B9B06D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F1B7-8466-42AE-82D2-E168C4E823D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14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7622-1329-455B-AA11-B66A7B9F65A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95280" y="114300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        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ots List #8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                     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unior Vocabula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(5 set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m, Hom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ne and the same; lik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omony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omogeniz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omocentri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omogenes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1" name="Picture 4" descr="homocentric.jpg"/>
          <p:cNvPicPr/>
          <p:nvPr/>
        </p:nvPicPr>
        <p:blipFill>
          <a:blip r:embed="rId2"/>
          <a:stretch/>
        </p:blipFill>
        <p:spPr>
          <a:xfrm>
            <a:off x="6095880" y="4495680"/>
            <a:ext cx="1981440" cy="1828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homogenize.jpg"/>
          <p:cNvPicPr/>
          <p:nvPr/>
        </p:nvPicPr>
        <p:blipFill>
          <a:blip r:embed="rId3"/>
          <a:stretch/>
        </p:blipFill>
        <p:spPr>
          <a:xfrm>
            <a:off x="6172200" y="304920"/>
            <a:ext cx="2666880" cy="17524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homonym.jpg"/>
          <p:cNvPicPr/>
          <p:nvPr/>
        </p:nvPicPr>
        <p:blipFill>
          <a:blip r:embed="rId4"/>
          <a:stretch/>
        </p:blipFill>
        <p:spPr>
          <a:xfrm>
            <a:off x="1143000" y="2666880"/>
            <a:ext cx="2895480" cy="24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mi, Hom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omicide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ide-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to kill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omosapie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omicid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7" name="Picture 4" descr="homicde.jpg"/>
          <p:cNvPicPr/>
          <p:nvPr/>
        </p:nvPicPr>
        <p:blipFill>
          <a:blip r:embed="rId2"/>
          <a:stretch/>
        </p:blipFill>
        <p:spPr>
          <a:xfrm>
            <a:off x="6781680" y="5105520"/>
            <a:ext cx="2133720" cy="15811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omosapiens.jpg"/>
          <p:cNvPicPr/>
          <p:nvPr/>
        </p:nvPicPr>
        <p:blipFill>
          <a:blip r:embed="rId3"/>
          <a:stretch/>
        </p:blipFill>
        <p:spPr>
          <a:xfrm>
            <a:off x="1523880" y="3048120"/>
            <a:ext cx="221004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ydr, Hydr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a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ydra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ydrolog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ydrome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ydrophobi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ydra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ydroge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ydroplan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2" name="Picture 4" descr="hydrant.jpg"/>
          <p:cNvPicPr/>
          <p:nvPr/>
        </p:nvPicPr>
        <p:blipFill>
          <a:blip r:embed="rId2"/>
          <a:stretch/>
        </p:blipFill>
        <p:spPr>
          <a:xfrm>
            <a:off x="1219320" y="495288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hydrogen.jpg"/>
          <p:cNvPicPr/>
          <p:nvPr/>
        </p:nvPicPr>
        <p:blipFill>
          <a:blip r:embed="rId3"/>
          <a:stretch/>
        </p:blipFill>
        <p:spPr>
          <a:xfrm>
            <a:off x="5257800" y="5257800"/>
            <a:ext cx="1752480" cy="1447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hydrology.jpg"/>
          <p:cNvPicPr/>
          <p:nvPr/>
        </p:nvPicPr>
        <p:blipFill>
          <a:blip r:embed="rId4"/>
          <a:stretch/>
        </p:blipFill>
        <p:spPr>
          <a:xfrm>
            <a:off x="2743200" y="403848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hydrometer.jpg"/>
          <p:cNvPicPr/>
          <p:nvPr/>
        </p:nvPicPr>
        <p:blipFill>
          <a:blip r:embed="rId5"/>
          <a:stretch/>
        </p:blipFill>
        <p:spPr>
          <a:xfrm>
            <a:off x="8001000" y="2666880"/>
            <a:ext cx="523800" cy="1428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hydrophobia.jpg"/>
          <p:cNvPicPr/>
          <p:nvPr/>
        </p:nvPicPr>
        <p:blipFill>
          <a:blip r:embed="rId6"/>
          <a:stretch/>
        </p:blipFill>
        <p:spPr>
          <a:xfrm>
            <a:off x="7391520" y="4952880"/>
            <a:ext cx="1609560" cy="1676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hydroplane.jpg"/>
          <p:cNvPicPr/>
          <p:nvPr/>
        </p:nvPicPr>
        <p:blipFill>
          <a:blip r:embed="rId7"/>
          <a:stretch/>
        </p:blipFill>
        <p:spPr>
          <a:xfrm>
            <a:off x="2971800" y="198108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hydroplanee.jpg"/>
          <p:cNvPicPr/>
          <p:nvPr/>
        </p:nvPicPr>
        <p:blipFill>
          <a:blip r:embed="rId8"/>
          <a:stretch/>
        </p:blipFill>
        <p:spPr>
          <a:xfrm>
            <a:off x="1066680" y="2895480"/>
            <a:ext cx="1524240" cy="14479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hydrate.jpg"/>
          <p:cNvPicPr/>
          <p:nvPr/>
        </p:nvPicPr>
        <p:blipFill>
          <a:blip r:embed="rId9"/>
          <a:stretch/>
        </p:blipFill>
        <p:spPr>
          <a:xfrm>
            <a:off x="7467480" y="0"/>
            <a:ext cx="147636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yp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ess than usual; below or und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ypoactiv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ypodermic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rm-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skin) 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c-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f or pertaining to; like; connected with, etc)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ypocritic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ypotens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ypocri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*Hyper=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re than usu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3" name="Picture 4" descr="hypoactive.jpg"/>
          <p:cNvPicPr/>
          <p:nvPr/>
        </p:nvPicPr>
        <p:blipFill>
          <a:blip r:embed="rId2"/>
          <a:stretch/>
        </p:blipFill>
        <p:spPr>
          <a:xfrm>
            <a:off x="2819520" y="4648320"/>
            <a:ext cx="2361960" cy="1981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hypodermic.jpg"/>
          <p:cNvPicPr/>
          <p:nvPr/>
        </p:nvPicPr>
        <p:blipFill>
          <a:blip r:embed="rId3"/>
          <a:stretch/>
        </p:blipFill>
        <p:spPr>
          <a:xfrm>
            <a:off x="7238880" y="304920"/>
            <a:ext cx="1467000" cy="14097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hypotension.jpg"/>
          <p:cNvPicPr/>
          <p:nvPr/>
        </p:nvPicPr>
        <p:blipFill>
          <a:blip r:embed="rId4"/>
          <a:stretch/>
        </p:blipFill>
        <p:spPr>
          <a:xfrm>
            <a:off x="1295280" y="3124080"/>
            <a:ext cx="175284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l, Im, In, I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; into; withi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llumina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llustra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mpor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mmers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spe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scrib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spir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incarna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rradia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9" name="Picture 4" descr="reincarnate.jpg"/>
          <p:cNvPicPr/>
          <p:nvPr/>
        </p:nvPicPr>
        <p:blipFill>
          <a:blip r:embed="rId2"/>
          <a:stretch/>
        </p:blipFill>
        <p:spPr>
          <a:xfrm>
            <a:off x="3429000" y="2438280"/>
            <a:ext cx="1828800" cy="22100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immerse.jpg"/>
          <p:cNvPicPr/>
          <p:nvPr/>
        </p:nvPicPr>
        <p:blipFill>
          <a:blip r:embed="rId3"/>
          <a:stretch/>
        </p:blipFill>
        <p:spPr>
          <a:xfrm>
            <a:off x="7238880" y="2286000"/>
            <a:ext cx="1752840" cy="14382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illuminate.jpg"/>
          <p:cNvPicPr/>
          <p:nvPr/>
        </p:nvPicPr>
        <p:blipFill>
          <a:blip r:embed="rId4"/>
          <a:stretch/>
        </p:blipFill>
        <p:spPr>
          <a:xfrm>
            <a:off x="1523880" y="487692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illustrate.jpg"/>
          <p:cNvPicPr/>
          <p:nvPr/>
        </p:nvPicPr>
        <p:blipFill>
          <a:blip r:embed="rId5"/>
          <a:stretch/>
        </p:blipFill>
        <p:spPr>
          <a:xfrm>
            <a:off x="990720" y="2743200"/>
            <a:ext cx="1981080" cy="16765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inscribe.jpg"/>
          <p:cNvPicPr/>
          <p:nvPr/>
        </p:nvPicPr>
        <p:blipFill>
          <a:blip r:embed="rId6"/>
          <a:stretch/>
        </p:blipFill>
        <p:spPr>
          <a:xfrm>
            <a:off x="7162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inspect.jpg"/>
          <p:cNvPicPr/>
          <p:nvPr/>
        </p:nvPicPr>
        <p:blipFill>
          <a:blip r:embed="rId7"/>
          <a:stretch/>
        </p:blipFill>
        <p:spPr>
          <a:xfrm>
            <a:off x="7086600" y="0"/>
            <a:ext cx="182880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teacher</cp:lastModifiedBy>
  <dcterms:modified xsi:type="dcterms:W3CDTF">2009-02-23T22:38:05Z</dcterms:modified>
  <cp:revision>28</cp:revision>
  <dc:subject/>
  <dc:title>Roots List #1</dc:title>
</cp:coreProperties>
</file>